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wmf" ContentType="image/x-wmf"/>
  <Override PartName="/ppt/media/image9.gif" ContentType="image/gif"/>
  <Override PartName="/ppt/media/image13.jpeg" ContentType="image/jpeg"/>
  <Override PartName="/ppt/media/image8.jpeg" ContentType="image/jpeg"/>
  <Override PartName="/ppt/media/image5.png" ContentType="image/png"/>
  <Override PartName="/ppt/media/image12.wmf" ContentType="image/x-wmf"/>
  <Override PartName="/ppt/media/image24.gif" ContentType="image/gif"/>
  <Override PartName="/ppt/media/image7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2.jpeg" ContentType="image/jpeg"/>
  <Override PartName="/ppt/media/image20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1.gif" ContentType="image/gif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520" y="3003480"/>
            <a:ext cx="84582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520" y="300348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4560" y="300348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0360" y="106632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560" y="106632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520" y="300348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0360" y="300348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560" y="300348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458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90520" y="304560"/>
            <a:ext cx="772488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00348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4560" y="300348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003480"/>
            <a:ext cx="84582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4582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marL="231840" indent="-231840">
              <a:spcBef>
                <a:spcPts val="22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77840">
              <a:spcBef>
                <a:spcPts val="2251"/>
              </a:spcBef>
              <a:buClr>
                <a:srgbClr val="000000"/>
              </a:buClr>
              <a:buFont typeface="Book Antiqua"/>
              <a:buChar char="•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7784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8080" indent="-17784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-13176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53960" indent="-13176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53960" indent="-13176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40360" y="6688080"/>
            <a:ext cx="8632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1EC8-E542-4436-A14C-E5A98A8CE948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42840"/>
          <a:ext cx="221004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42840"/>
                    <a:ext cx="22100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0" y="838080"/>
            <a:ext cx="9144000" cy="4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5480" y="6635880"/>
            <a:ext cx="166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2  </a:t>
            </a:r>
            <a:r>
              <a:rPr b="0" lang="es-AR" sz="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pyright ACCEN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58760" y="6643800"/>
            <a:ext cx="7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iel Pasc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29400"/>
            <a:ext cx="9144000" cy="4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8c8c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86200"/>
            <a:ext cx="9144000" cy="2971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523880"/>
          <a:ext cx="3886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886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99920" y="4191120"/>
            <a:ext cx="7543800" cy="2259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  <a:ea typeface="Tahoma"/>
              </a:rPr>
              <a:t>Análisis global del mercado d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  <a:ea typeface="Tahoma"/>
              </a:rPr>
              <a:t>en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eptiembr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5760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7800" y="60642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riel Pas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acto en las indust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j0282854" descr=""/>
          <p:cNvPicPr/>
          <p:nvPr/>
        </p:nvPicPr>
        <p:blipFill>
          <a:blip r:embed="rId1"/>
          <a:stretch/>
        </p:blipFill>
        <p:spPr>
          <a:xfrm>
            <a:off x="7924680" y="914400"/>
            <a:ext cx="110808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1413000"/>
            <a:ext cx="7543800" cy="2284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 industria de Telecomunicaciones afronta una crisis a nivel global y loc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e las Invers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aída de la demanda a nivel loc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Fuerte componentes de costo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ndeudamiento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114800"/>
            <a:ext cx="754380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EMAS MAS IMPORTANTES DE 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lineación de TI/Negocio y viceversa (CIO = catalizado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nversión casi nula y reducción de gasto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o hubo reducción de RRHH (no es un componente crític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Se estudian posibles transformaciones con outsourc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acto en las indust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3880"/>
            <a:ext cx="7543800" cy="2527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l “corralito” generó cambios directos en la indust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Bancarización compuls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el volumen de nego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ncremento de los riesgos para la continuidad de nego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SERVICI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91120"/>
            <a:ext cx="754380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EMAS MAS IMPORTANTES DE 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rástica de costos (terceriz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“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Downsizing” de estructura, sin afectar 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fuerzo de Esquemas de Seguridad y Conting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mpulso del e-ba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00544A" descr=""/>
          <p:cNvPicPr/>
          <p:nvPr/>
        </p:nvPicPr>
        <p:blipFill>
          <a:blip r:embed="rId1"/>
          <a:stretch/>
        </p:blipFill>
        <p:spPr>
          <a:xfrm>
            <a:off x="7913520" y="990720"/>
            <a:ext cx="1154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acto en las indust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3880"/>
            <a:ext cx="7543800" cy="2284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alidad un poco difer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ntracción de demanda inter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uevas oportunidades de exportar (productos o servici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lgunas PyMES quedaron como “target” de M&amp;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038480"/>
            <a:ext cx="754380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EMAS MAS IMPORTANTES DE 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rástica de costos (IT metrics/terceriz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negociación contrato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ingeniería de Procesos de IT (integración o eficienci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Seguridad y Ajuste por Infl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00495_" descr=""/>
          <p:cNvPicPr/>
          <p:nvPr/>
        </p:nvPicPr>
        <p:blipFill>
          <a:blip r:embed="rId1"/>
          <a:stretch/>
        </p:blipFill>
        <p:spPr>
          <a:xfrm>
            <a:off x="7924680" y="990720"/>
            <a:ext cx="1071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acto en las indust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523880"/>
            <a:ext cx="7467480" cy="2040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n Recursos hay 2 grandes grupos (Exportadoras vs. Proveedoras locale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s exportadoras pesificaron costos y facturan en u$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o hubo reducción de invers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s locales facturan en pesos y tienen algú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 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ndeudamiento en u$s. Necesidad de reducir cos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RECURSOS 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927600"/>
            <a:ext cx="746748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EMAS MAS IMPORTANTES DE 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rástica de costos (terceriz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negociación de contratos y licencia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Optimización de activos existentes (sin reducción de RH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nsolidación de proveedores de servi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j0149899" descr=""/>
          <p:cNvPicPr/>
          <p:nvPr/>
        </p:nvPicPr>
        <p:blipFill>
          <a:blip r:embed="rId1"/>
          <a:stretch/>
        </p:blipFill>
        <p:spPr>
          <a:xfrm>
            <a:off x="7875720" y="990720"/>
            <a:ext cx="111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4840" y="3733920"/>
            <a:ext cx="6934320" cy="7617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´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tuación de los proveedores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990720"/>
            <a:ext cx="7924680" cy="43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3 GRANDES ARE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Este mercado se estima será de solo 550 MM u$s. Ya se había reducido a 1200 MM u$s en el 2001 (de 1900 MM u$s en el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Este mercado se estima será de solo 180 MM u$s (55%). Ya se había reducido un 9% del 2000 al 2001 (quedando en 400 MM de u$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Este mercado se estima será de solo 600 MM u$s (46%). Solo se había reducido un 3% del 2000 al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174964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1828800" cy="990360"/>
          </a:xfrm>
          <a:prstGeom prst="rect">
            <a:avLst/>
          </a:prstGeom>
          <a:ln w="0">
            <a:noFill/>
          </a:ln>
        </p:spPr>
      </p:pic>
      <p:pic>
        <p:nvPicPr>
          <p:cNvPr id="108" name="j0208050" descr=""/>
          <p:cNvPicPr/>
          <p:nvPr/>
        </p:nvPicPr>
        <p:blipFill>
          <a:blip r:embed="rId2"/>
          <a:stretch/>
        </p:blipFill>
        <p:spPr>
          <a:xfrm>
            <a:off x="6400800" y="289548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109" name="j0316785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1828800" cy="990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230600" y="5486400"/>
            <a:ext cx="1442520" cy="276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uente: IDC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tuación de los proveedores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990720"/>
            <a:ext cx="7925040" cy="527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2 Grandes Grupos de Proveedor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Los que NO pueden pes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us productos tienen valor u$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Ej: Hardware o Software “paquetizado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Los que SÍ pueden pes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us productos o servicios tienen un alto componente loc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Ej: Productores locales de software y consultor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Y01896_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762120" cy="600120"/>
          </a:xfrm>
          <a:prstGeom prst="rect">
            <a:avLst/>
          </a:prstGeom>
          <a:ln w="0">
            <a:noFill/>
          </a:ln>
        </p:spPr>
      </p:pic>
      <p:pic>
        <p:nvPicPr>
          <p:cNvPr id="114" name="SY01897_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1219320" cy="674640"/>
          </a:xfrm>
          <a:prstGeom prst="rect">
            <a:avLst/>
          </a:prstGeom>
          <a:ln w="0">
            <a:noFill/>
          </a:ln>
        </p:spPr>
      </p:pic>
      <p:pic>
        <p:nvPicPr>
          <p:cNvPr id="115" name="j0316960" descr=""/>
          <p:cNvPicPr/>
          <p:nvPr/>
        </p:nvPicPr>
        <p:blipFill>
          <a:blip r:embed="rId3"/>
          <a:stretch/>
        </p:blipFill>
        <p:spPr>
          <a:xfrm>
            <a:off x="6019920" y="1241280"/>
            <a:ext cx="246672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371600"/>
            <a:ext cx="7925040" cy="3501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Factores en jueg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esión de las corporaciones (recesión local y glob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ngelamiento de los proyectos potenciales y parálisis en los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iveles deciso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esión de los clientes para renegociar los contrato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Falta de financiamiento e el mer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esión de baja de precios, por falta de dema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ncremento en la morosidad (falta de liquide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91440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Los que NO pueden pes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981680"/>
            <a:ext cx="7925040" cy="1310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ctitud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Oferta de productos de menor valor y menores prest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provechamiento de la crisis para generar mejor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osicion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tuación de los proveedores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Y01897_" descr=""/>
          <p:cNvPicPr/>
          <p:nvPr/>
        </p:nvPicPr>
        <p:blipFill>
          <a:blip r:embed="rId1"/>
          <a:stretch/>
        </p:blipFill>
        <p:spPr>
          <a:xfrm>
            <a:off x="7772400" y="914400"/>
            <a:ext cx="12193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91440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tuación de los proveedores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314360"/>
            <a:ext cx="7925040" cy="450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Fuerte consolidación = Menos “player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Ventajas para algunas empresas hábiles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entornos recesivos y de infl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Congelamiento de nuevos proyectos. Algunos en curso amortiguan el impacto. Primeros indicios de una voluntad exportad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Pesificación. Re-estructuración. Reducción de costos. </a:t>
            </a: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Pérdida de know-how local. Fuerte consolid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POR AHORA EL MERCADO ES “CORTO-PLACISTA”, POR LO 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UAL LAS NECESIDADES TACTICO-ESTRATEGICAS ESTAN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ONGEL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LAS EMPRESAS DE TI MAS IMPORTANTES NO ABANDONAN EL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j0281004" descr=""/>
          <p:cNvPicPr/>
          <p:nvPr/>
        </p:nvPicPr>
        <p:blipFill>
          <a:blip r:embed="rId1"/>
          <a:stretch/>
        </p:blipFill>
        <p:spPr>
          <a:xfrm>
            <a:off x="7162920" y="1371600"/>
            <a:ext cx="1562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04840" y="4419720"/>
            <a:ext cx="6934320" cy="7617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Agendas de los CIO´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04840" y="1523880"/>
            <a:ext cx="6934320" cy="7621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gendas de los CIO´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523880"/>
            <a:ext cx="7925040" cy="449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2 Grandes Tem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Alineamiento de TI con el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Adaptar la tecnología a “navegación de tormenta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Incremento del aporte de Valor a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Apalancar la tecnología para generar valor tangib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j0078800" descr=""/>
          <p:cNvPicPr/>
          <p:nvPr/>
        </p:nvPicPr>
        <p:blipFill>
          <a:blip r:embed="rId1"/>
          <a:stretch/>
        </p:blipFill>
        <p:spPr>
          <a:xfrm>
            <a:off x="7620120" y="2298600"/>
            <a:ext cx="990360" cy="901800"/>
          </a:xfrm>
          <a:prstGeom prst="rect">
            <a:avLst/>
          </a:prstGeom>
          <a:ln w="0">
            <a:noFill/>
          </a:ln>
        </p:spPr>
      </p:pic>
      <p:pic>
        <p:nvPicPr>
          <p:cNvPr id="131" name="j0300523" descr=""/>
          <p:cNvPicPr/>
          <p:nvPr/>
        </p:nvPicPr>
        <p:blipFill>
          <a:blip r:embed="rId2"/>
          <a:stretch/>
        </p:blipFill>
        <p:spPr>
          <a:xfrm>
            <a:off x="7790040" y="4343400"/>
            <a:ext cx="896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57480" y="91440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Alineamiento de TI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371600"/>
            <a:ext cx="7925040" cy="28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 Black"/>
              </a:rPr>
              <a:t>1era. Prioridad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:   DAR SOPORTE A LOS PROCESOS “AFIN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tros temas de importa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SEGURIDAD (por el contex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SOPORTE A LA OPERACIÓN Y AL SUPPLY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ACOMPAÑAR REDUCCION DE C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AGILIZAR LA RELACION TI/NEGOCIO (enla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gendas de los CIO´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343400"/>
            <a:ext cx="792504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MEJORES PRACT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oseer un proceso de planeamiento de 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ctivar un comité ejecutivo de TI, con participación de l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 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áreas de nego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ctualizar el Plan estratégico de TI, cuatrimestralm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Medir la Performance de TI, a través de IT Metr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Utilizar el concepto de Portfolio Manag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mplementar evaluaciones de TI de 36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57480" y="91440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Incremento del aporte de valor de TI a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gendas de los CIO´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676520"/>
            <a:ext cx="7925040" cy="192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 Black"/>
              </a:rPr>
              <a:t>1era. Prioridad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:   CREAR, CAPTURAR Y COMUNICAR EL VALOR DE 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A MEDIDA QUE LA COMPLEJIDAD Y AMBIGÜ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TECNOLOGICA AUMENTA, LOS CIO´s SE ENCUENTRAN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POSICIONES DE MAYOR LIDERAZGO Y EX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733920"/>
            <a:ext cx="7925040" cy="25275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MEJORES PRACT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valuar el Plan de TI por las Unidades de Nego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rear SLA´s, para manejar las expectativ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municar el valor de los proyectos de TI a travé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écnicas de “Portfolio Management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Desarrollar procesos para evaluar y manejar riesgos y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variabi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rear planes y estrategias de comunic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Generar una taxonomía que unifique los niveles estratégicos,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ácticos y operativos de TI para asegurar consist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4840" y="5181480"/>
            <a:ext cx="6934320" cy="7621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´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1066680"/>
            <a:ext cx="7925040" cy="53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 Tecnología es solo un elemento facilitador, pero de alto impacto en la estrategia global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 Black"/>
              </a:rPr>
              <a:t>5 Estrategias básicas de un 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a. Afinar sus propios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b. Apalancar la tecnología para el neg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c. Transferir las funciones que no son “cor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d. Generar ahorros significativos aplicand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  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tecnología en la cadena de abast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e. Aplicar la tecnología para mejorar la r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  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con los cl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s adop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133720"/>
            <a:ext cx="571500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j0177919" descr=""/>
          <p:cNvPicPr/>
          <p:nvPr/>
        </p:nvPicPr>
        <p:blipFill>
          <a:blip r:embed="rId1"/>
          <a:stretch/>
        </p:blipFill>
        <p:spPr>
          <a:xfrm>
            <a:off x="7620120" y="2057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990720"/>
            <a:ext cx="7925040" cy="512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s estrategias de TI deben alinearse con las de nego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Agenda Estratég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Focalización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Adquisiciones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Reducir ineficiencias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AI, SCM, eLearning,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Ganar Mercado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C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Compartir Costos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Shar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Nuevos mercados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Replanteo estratégico     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s adop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j0177917" descr=""/>
          <p:cNvPicPr/>
          <p:nvPr/>
        </p:nvPicPr>
        <p:blipFill>
          <a:blip r:embed="rId1"/>
          <a:stretch/>
        </p:blipFill>
        <p:spPr>
          <a:xfrm>
            <a:off x="7391520" y="1676520"/>
            <a:ext cx="11174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0234752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18276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1828800"/>
            <a:ext cx="716256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 Black"/>
              </a:rPr>
              <a:t>Situación del Mercado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uales han sido los cambios más importantes a nivel context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omo han impactado en el área de Tecnología  de las empresa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ual ha sido el impacto particular en cada industri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ual es la situación de los proveedores de 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omo es la agenda de un CI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uales son las estrategias adoptadas ? Cual es el rol de 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j0315598" descr=""/>
          <p:cNvPicPr/>
          <p:nvPr/>
        </p:nvPicPr>
        <p:blipFill>
          <a:blip r:embed="rId1"/>
          <a:stretch/>
        </p:blipFill>
        <p:spPr>
          <a:xfrm>
            <a:off x="6743880" y="9907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4840" y="2209680"/>
            <a:ext cx="6934320" cy="7621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uevo contexto de la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523880"/>
            <a:ext cx="7925040" cy="46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NUEVO CONTEX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GRAVE REC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FIN DE LA CONVER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PE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INF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INESTABILIDAD SOCIAL Y POLÍ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MERCADO CAÓTICO Y CAMBIOS DE ESTRATEG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j0227667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uevo contexto de la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523880"/>
            <a:ext cx="7925040" cy="4810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NUEVO ESCENARIO DE UN CI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ESION POR REDUCCION DE C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ECESIDAD DE GARANTIZAR LA OPERACIÓN CON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CURSOS DISPON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NGELAMIENTO DE TODO PROYECTO NO “COR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UEVOS PROCESOS DE AUTORIZACION DE “SPEND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NEGOCIACION DE TODOS LOS CONTR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OVEEDORES EN CR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anger" descr=""/>
          <p:cNvPicPr/>
          <p:nvPr/>
        </p:nvPicPr>
        <p:blipFill>
          <a:blip r:embed="rId1"/>
          <a:stretch/>
        </p:blipFill>
        <p:spPr>
          <a:xfrm>
            <a:off x="7238880" y="1600200"/>
            <a:ext cx="1447920" cy="1279440"/>
          </a:xfrm>
          <a:prstGeom prst="rect">
            <a:avLst/>
          </a:prstGeom>
          <a:ln w="0">
            <a:noFill/>
          </a:ln>
        </p:spPr>
      </p:pic>
      <p:pic>
        <p:nvPicPr>
          <p:cNvPr id="68" name="PH01543K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7398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uevo contexto de la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752480"/>
            <a:ext cx="7925040" cy="4474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l mercado de IT está retrocediendo a niveles de 199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(ventas por 1300 MM u$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ras el rebote (se estima a mediado del 2003) se tardará 4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ños en recuperar los niveles del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 reducción de gastos de IT en Argentina en el 2002,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specto al año anterior, se estima en un 37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s caídas mas significativ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Hardware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-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Servicios 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-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municaciones -3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Software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-3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748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ALGUNAS TENDENCIAS DEL MERCAD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j0299183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820880" cy="151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230600" y="6324480"/>
            <a:ext cx="1442520" cy="276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uente: IDC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uevo contexto de la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752480"/>
            <a:ext cx="7925040" cy="44744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Distribución de consumo de T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Hardware   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3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Comunicaciones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Software    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2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Servicios    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Arial Black"/>
              </a:rPr>
              <a:t>Hardware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:  PC´s (43%) y Servers (22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Arial Black"/>
              </a:rPr>
              <a:t>Comunicaciones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: Telefonía (41%), Datos e Internet (18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Arial Black"/>
              </a:rPr>
              <a:t>Software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: Sistemas de Base (31%) y Aplicativos (19%), ERP´s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(15%), Herramientas de Desarrollo (14%) y CRM (14%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Arial Black"/>
              </a:rPr>
              <a:t>Servicios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: Mantenimiento (40%) y Consultoría (18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748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EN QUE SE GASTA... 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j0316865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40192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06920" y="6324480"/>
            <a:ext cx="1442520" cy="276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uente: IDC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4840" y="2971800"/>
            <a:ext cx="6934320" cy="7621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ndersen Consulting - CIO Organization</dc:creator>
  <dc:description>Blank presentation using AC standard text.  Andersen Consulting Firmwide Templates v7.0.</dc:description>
  <dc:language>en-US</dc:language>
  <cp:lastModifiedBy>apascar</cp:lastModifiedBy>
  <cp:lastPrinted>1998-08-05T22:38:06Z</cp:lastPrinted>
  <dcterms:modified xsi:type="dcterms:W3CDTF">2002-08-29T22:45:35Z</dcterms:modified>
  <cp:revision>536</cp:revision>
  <dc:subject/>
  <dc:title>Blank Presentation</dc:title>
</cp:coreProperties>
</file>