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321-ACB7-43D9-9D6D-D83BD7BA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FA0-ABA4-4C96-8BBB-A98370DA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86B-597B-456E-9C6B-C07475BA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C07-DD2D-4413-B77E-982B2E0C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F10-5F10-428B-95F9-0AAB0A5C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12B-41D6-4DAE-8958-22EBE3EC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369-6874-49CC-922C-9474BB87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A3B-D4DE-4111-B34A-C760B8DF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055-2E9A-4A5A-9321-90014327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2B9-3E79-44D3-8572-E3DCB3A9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46E-7CA6-4D5E-B9AC-39CB573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55F-8DF7-4692-8C64-91C046D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2E42-AECF-4498-919B-4F384E6EE1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1139-4ED8-43DB-902F-801E9D980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Renegociación de cláusulas de precio y plazo en el nuevo contexto macroeconómico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r. Juan Martín Aroc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studio Allende &amp; B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3011400"/>
            <a:ext cx="1904760" cy="17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64767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s pes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s exclusivos de la pe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uaciones 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potecas entre particula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potecas c/ entidades financieras en pe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2666520"/>
            <a:ext cx="5562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 típica de vendor 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Sale lease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Prést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7920" y="2209680"/>
            <a:ext cx="5334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ale  / Lease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Partes = Banco y Empr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Opción de comp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Operativa del cont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ey aplic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Pesif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Incumplimiento del cont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59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1960" y="2361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tos de Prést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rtes = Banco y Empr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pera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gar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y aplic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sif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cumplimiento del cont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65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e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Vendor Financing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Pesificación de Contra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800" y="26665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arantías inter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275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Dificultad interpreta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35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ey Apl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ccesibilidad con el contrato garant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6324480"/>
            <a:ext cx="1143000" cy="304920"/>
            <a:chOff x="3962520" y="6324480"/>
            <a:chExt cx="1143000" cy="304920"/>
          </a:xfrm>
        </p:grpSpPr>
        <p:sp>
          <p:nvSpPr>
            <p:cNvPr id="71" name="">
              <a:hlinkClick r:id="" action="ppaction://hlinkshowjump?jump=nextslide"/>
            </p:cNvPr>
            <p:cNvSpPr/>
            <p:nvPr/>
          </p:nvSpPr>
          <p:spPr>
            <a:xfrm>
              <a:off x="4724280" y="6324480"/>
              <a:ext cx="381240" cy="304920"/>
            </a:xfrm>
            <a:custGeom>
              <a:avLst/>
              <a:gdLst>
                <a:gd name="textAreaLeft" fmla="*/ 19440 w 381240"/>
                <a:gd name="textAreaRight" fmla="*/ 361800 w 38124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7000" h="21600">
                  <a:moveTo>
                    <a:pt x="0" y="0"/>
                  </a:moveTo>
                  <a:lnTo>
                    <a:pt x="27000" y="0"/>
                  </a:lnTo>
                  <a:lnTo>
                    <a:pt x="27000" y="21600"/>
                  </a:lnTo>
                  <a:lnTo>
                    <a:pt x="0" y="21600"/>
                  </a:lnTo>
                  <a:close/>
                </a:path>
                <a:path fill="lightenLess" w="27000" h="21600">
                  <a:moveTo>
                    <a:pt x="0" y="0"/>
                  </a:moveTo>
                  <a:lnTo>
                    <a:pt x="27000" y="0"/>
                  </a:lnTo>
                  <a:lnTo>
                    <a:pt x="25600" y="1400"/>
                  </a:lnTo>
                  <a:lnTo>
                    <a:pt x="1400" y="1400"/>
                  </a:lnTo>
                  <a:close/>
                </a:path>
                <a:path fill="darken" w="27000" h="21600">
                  <a:moveTo>
                    <a:pt x="27000" y="0"/>
                  </a:moveTo>
                  <a:lnTo>
                    <a:pt x="27000" y="21600"/>
                  </a:lnTo>
                  <a:lnTo>
                    <a:pt x="25600" y="20200"/>
                  </a:lnTo>
                  <a:lnTo>
                    <a:pt x="25600" y="1400"/>
                  </a:lnTo>
                  <a:close/>
                </a:path>
                <a:path fill="darkenLess" w="27000" h="21600">
                  <a:moveTo>
                    <a:pt x="270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00" y="20200"/>
                  </a:lnTo>
                  <a:close/>
                </a:path>
                <a:path fill="lighten" w="270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00" h="21600">
                  <a:moveTo>
                    <a:pt x="6494" y="3794"/>
                  </a:moveTo>
                  <a:lnTo>
                    <a:pt x="20506" y="10800"/>
                  </a:lnTo>
                  <a:lnTo>
                    <a:pt x="6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>
              <a:hlinkClick r:id="" action="ppaction://hlinkshowjump?jump=previousslide"/>
            </p:cNvPr>
            <p:cNvSpPr/>
            <p:nvPr/>
          </p:nvSpPr>
          <p:spPr>
            <a:xfrm>
              <a:off x="3962520" y="6324480"/>
              <a:ext cx="380880" cy="304920"/>
            </a:xfrm>
            <a:custGeom>
              <a:avLst/>
              <a:gdLst>
                <a:gd name="textAreaLeft" fmla="*/ 19440 w 380880"/>
                <a:gd name="textAreaRight" fmla="*/ 361440 w 38088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6975" h="21600">
                  <a:moveTo>
                    <a:pt x="0" y="0"/>
                  </a:moveTo>
                  <a:lnTo>
                    <a:pt x="26975" y="0"/>
                  </a:lnTo>
                  <a:lnTo>
                    <a:pt x="26975" y="21600"/>
                  </a:lnTo>
                  <a:lnTo>
                    <a:pt x="0" y="21600"/>
                  </a:lnTo>
                  <a:close/>
                </a:path>
                <a:path fill="lightenLess" w="26975" h="21600">
                  <a:moveTo>
                    <a:pt x="0" y="0"/>
                  </a:moveTo>
                  <a:lnTo>
                    <a:pt x="26975" y="0"/>
                  </a:lnTo>
                  <a:lnTo>
                    <a:pt x="25575" y="1400"/>
                  </a:lnTo>
                  <a:lnTo>
                    <a:pt x="1400" y="1400"/>
                  </a:lnTo>
                  <a:close/>
                </a:path>
                <a:path fill="darken" w="26975" h="21600">
                  <a:moveTo>
                    <a:pt x="26975" y="0"/>
                  </a:moveTo>
                  <a:lnTo>
                    <a:pt x="26975" y="21600"/>
                  </a:lnTo>
                  <a:lnTo>
                    <a:pt x="25575" y="20200"/>
                  </a:lnTo>
                  <a:lnTo>
                    <a:pt x="25575" y="1400"/>
                  </a:lnTo>
                  <a:close/>
                </a:path>
                <a:path fill="darkenLess" w="26975" h="21600">
                  <a:moveTo>
                    <a:pt x="269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575" y="20200"/>
                  </a:lnTo>
                  <a:close/>
                </a:path>
                <a:path fill="lighten" w="269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6975" h="21600">
                  <a:moveTo>
                    <a:pt x="6481" y="10800"/>
                  </a:moveTo>
                  <a:lnTo>
                    <a:pt x="20494" y="3794"/>
                  </a:lnTo>
                  <a:lnTo>
                    <a:pt x="20494" y="1780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5943600"/>
            <a:ext cx="7556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8:56:34Z</dcterms:created>
  <dc:creator>Andrea</dc:creator>
  <dc:description/>
  <dc:language>en-US</dc:language>
  <cp:lastModifiedBy>patriciow</cp:lastModifiedBy>
  <cp:lastPrinted>2002-08-30T19:36:57Z</cp:lastPrinted>
  <dcterms:modified xsi:type="dcterms:W3CDTF">2002-08-30T20:28:03Z</dcterms:modified>
  <cp:revision>19</cp:revision>
  <dc:subject/>
  <dc:title>Sin título de diapositiva</dc:title>
</cp:coreProperties>
</file>