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F91-7593-4EB1-8ADC-EB73A439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6E4-8D78-4188-8E73-9FC45A1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27A-D997-4FDC-A555-76B2FFBE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5FC-D08E-4B69-82A9-839CD308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35D-0C14-4C65-8E99-8D6D692E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60E-5BF9-4E1E-83F6-D069DA71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724-C4F1-4EBE-B8D4-31FE475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F8D-7ECE-459A-ACBF-56D044C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6DC-2F17-4357-A3DE-B126F39F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0D6-505A-410E-B34E-AAF4F88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857-EB0D-443C-B76F-6C76FD8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436-A27C-4EA1-86A9-76BF377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C7EB-B76E-449A-8A44-320DBE4A9D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6C6B-2861-4102-9CA9-A6A3598F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Renegociación de cláusulas de precio y plazo en el nuevo contexto macroeconómico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r. Juan Martín Aroc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studio Allende &amp; B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011400"/>
            <a:ext cx="1904760" cy="17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476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pes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exclusivos de la pe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cione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potecas entre particul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potecas c/ entidades financieras en pe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266652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 típica de vendor 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Sale lease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rést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334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ale  / Lease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artes = Banco y Empr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Opción de comp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Operativa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esif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Incumplimiento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59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1960" y="2361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de Prést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rtes = Banco y Empr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per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gar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sif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umplimiento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65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26665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arantías inter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275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Dificultad interpret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cesibilidad con el contrato garant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71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8:56:34Z</dcterms:created>
  <dc:creator>Andrea</dc:creator>
  <dc:description/>
  <dc:language>en-US</dc:language>
  <cp:lastModifiedBy>patriciow</cp:lastModifiedBy>
  <cp:lastPrinted>2002-08-30T19:36:57Z</cp:lastPrinted>
  <dcterms:modified xsi:type="dcterms:W3CDTF">2002-08-30T20:28:03Z</dcterms:modified>
  <cp:revision>19</cp:revision>
  <dc:subject/>
  <dc:title>Sin título de diapositiva</dc:title>
</cp:coreProperties>
</file>